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A53-5055-4E44-8CA8-D8F5CEF7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5B9-55DD-42AE-AFDE-35108D42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9B2-97A6-4F3D-911B-499417B8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DF4-3363-4877-8B30-D2CE9912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B7B-B194-4D6D-90AB-1AAB1EF3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22D-21CF-49A6-80ED-66214C8B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509-80FE-43B3-9F74-29E5A85B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280-B0A3-4A56-9F05-132241BA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F6A-000B-4749-A63C-BDEEC26B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588-8B1A-4D6B-8BDB-237866AB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073-BB70-4512-BC18-FBC82F0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6AF-BD26-437B-984E-5BAFB2DD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1623-D1AD-492B-B7EB-3B1EF8173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1319040"/>
            <a:ext cx="6696360" cy="515160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95280" y="333360"/>
            <a:ext cx="83818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лассификация неорганических веществ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152280"/>
            <a:ext cx="731520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Нерастворимые основания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 при нагревании разла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0" y="3886200"/>
            <a:ext cx="1947960" cy="2286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0880" y="19051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Fe(OH)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 Fe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O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066680" y="2895480"/>
            <a:ext cx="7771680" cy="1066680"/>
            <a:chOff x="1066680" y="2895480"/>
            <a:chExt cx="7771680" cy="1066680"/>
          </a:xfrm>
        </p:grpSpPr>
        <p:grpSp>
          <p:nvGrpSpPr>
            <p:cNvPr id="189" name=""/>
            <p:cNvGrpSpPr/>
            <p:nvPr/>
          </p:nvGrpSpPr>
          <p:grpSpPr>
            <a:xfrm>
              <a:off x="1078560" y="2903040"/>
              <a:ext cx="7745760" cy="1050840"/>
              <a:chOff x="1078560" y="2903040"/>
              <a:chExt cx="7745760" cy="1050840"/>
            </a:xfrm>
          </p:grpSpPr>
          <p:sp>
            <p:nvSpPr>
              <p:cNvPr id="190" name=""/>
              <p:cNvSpPr/>
              <p:nvPr/>
            </p:nvSpPr>
            <p:spPr>
              <a:xfrm>
                <a:off x="1256040" y="2903040"/>
                <a:ext cx="7391520" cy="10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6600ff"/>
                    </a:solidFill>
                    <a:latin typeface="Tahoma"/>
                    <a:ea typeface="Arial"/>
                  </a:rPr>
                  <a:t>Cu(OH)</a:t>
                </a:r>
                <a:r>
                  <a:rPr b="1" lang="en-US" sz="4000" spc="-1" strike="noStrike" baseline="-30000">
                    <a:solidFill>
                      <a:srgbClr val="6600ff"/>
                    </a:solidFill>
                    <a:latin typeface="Tahoma"/>
                    <a:ea typeface="Arial"/>
                  </a:rPr>
                  <a:t>2</a:t>
                </a:r>
                <a:r>
                  <a:rPr b="1" lang="en-US" sz="4000" spc="-1" strike="noStrike">
                    <a:solidFill>
                      <a:srgbClr val="6600ff"/>
                    </a:solidFill>
                    <a:latin typeface="Tahoma"/>
                    <a:ea typeface="Arial"/>
                  </a:rPr>
                  <a:t>  </a:t>
                </a:r>
                <a:r>
                  <a:rPr b="1" lang="en-US" sz="4000" spc="-1" strike="noStrike">
                    <a:solidFill>
                      <a:srgbClr val="6600ff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4000" spc="-1" strike="noStrike">
                    <a:solidFill>
                      <a:srgbClr val="6600ff"/>
                    </a:solidFill>
                    <a:latin typeface="Tahoma"/>
                    <a:ea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6600ff"/>
                    </a:solidFill>
                    <a:latin typeface="Tahoma"/>
                    <a:ea typeface="Arial"/>
                  </a:rPr>
                  <a:t> CuO + H</a:t>
                </a:r>
                <a:r>
                  <a:rPr b="1" lang="en-US" sz="4000" spc="-1" strike="noStrike" baseline="-30000">
                    <a:solidFill>
                      <a:srgbClr val="6600ff"/>
                    </a:solidFill>
                    <a:latin typeface="Tahoma"/>
                    <a:ea typeface="Arial"/>
                  </a:rPr>
                  <a:t>2</a:t>
                </a:r>
                <a:r>
                  <a:rPr b="1" lang="en-US" sz="4000" spc="-1" strike="noStrike">
                    <a:solidFill>
                      <a:srgbClr val="6600ff"/>
                    </a:solidFill>
                    <a:latin typeface="Tahoma"/>
                    <a:ea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78560" y="2903040"/>
                <a:ext cx="7745760" cy="10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1066680" y="2895480"/>
              <a:ext cx="7771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905120" y="3733920"/>
            <a:ext cx="320040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Гидрокси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4495680"/>
            <a:ext cx="304920" cy="838440"/>
          </a:xfrm>
          <a:prstGeom prst="downArrow">
            <a:avLst>
              <a:gd name="adj1" fmla="val 50000"/>
              <a:gd name="adj2" fmla="val 68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5562720"/>
            <a:ext cx="2666880" cy="9471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Оксид  мет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5791320"/>
            <a:ext cx="160020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5638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171360"/>
            <a:ext cx="8534160" cy="651528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227920" y="5943600"/>
            <a:ext cx="2856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u(OH)</a:t>
            </a:r>
            <a:r>
              <a:rPr b="1" lang="en-US" sz="18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 –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t</a:t>
            </a:r>
            <a:r>
              <a:rPr b="1" lang="en-US" sz="1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 CuO + H</a:t>
            </a:r>
            <a:r>
              <a:rPr b="1" lang="en-US" sz="18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54640" y="6019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Verdana"/>
              </a:rPr>
              <a:t>Реши схему превращ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2312"/>
                </a:solidFill>
                <a:latin typeface="Arial"/>
              </a:rPr>
              <a:t>металл        оксид металла         осно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3640" y="1916280"/>
            <a:ext cx="574920" cy="0"/>
          </a:xfrm>
          <a:prstGeom prst="line">
            <a:avLst/>
          </a:prstGeom>
          <a:ln w="25560">
            <a:solidFill>
              <a:srgbClr val="fa231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1916280"/>
            <a:ext cx="576360" cy="0"/>
          </a:xfrm>
          <a:prstGeom prst="line">
            <a:avLst/>
          </a:prstGeom>
          <a:ln w="25560">
            <a:solidFill>
              <a:srgbClr val="fa231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3141720"/>
            <a:ext cx="8345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металл          соль металла         основа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5280" y="3429000"/>
            <a:ext cx="57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19640" y="3429000"/>
            <a:ext cx="57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46530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талл      оксид металла     соль металла     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4869000"/>
            <a:ext cx="28584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4869000"/>
            <a:ext cx="28872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1640" y="4869000"/>
            <a:ext cx="28584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Распределить вещества по классам. Дать названия и оформить согласно предложенной таблице</a:t>
            </a:r>
            <a:r>
              <a:rPr b="1" lang="en-US" sz="3600" spc="-1" strike="noStrike">
                <a:solidFill>
                  <a:srgbClr val="fa2312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O, HCl, Cl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7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, HNO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, KOH, Cu(OH)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, CuO, HF,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, PbO, H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, Al(OH)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, Al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, NaOH, H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, SO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, Ca(OH)</a:t>
            </a:r>
            <a:r>
              <a:rPr b="1" i="1" lang="es-E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95280" y="4221000"/>
          <a:ext cx="8529480" cy="1371600"/>
        </p:xfrm>
        <a:graphic>
          <a:graphicData uri="http://schemas.openxmlformats.org/drawingml/2006/table">
            <a:tbl>
              <a:tblPr/>
              <a:tblGrid>
                <a:gridCol w="1496880"/>
                <a:gridCol w="1354320"/>
                <a:gridCol w="2346120"/>
                <a:gridCol w="1602000"/>
                <a:gridCol w="1730160"/>
              </a:tblGrid>
              <a:tr h="673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сн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кс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щело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раствори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исл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7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95280" y="4221000"/>
          <a:ext cx="8529480" cy="1371600"/>
        </p:xfrm>
        <a:graphic>
          <a:graphicData uri="http://schemas.openxmlformats.org/drawingml/2006/table">
            <a:tbl>
              <a:tblPr/>
              <a:tblGrid>
                <a:gridCol w="1496880"/>
                <a:gridCol w="1354320"/>
                <a:gridCol w="2346120"/>
                <a:gridCol w="1602000"/>
                <a:gridCol w="1730160"/>
              </a:tblGrid>
              <a:tr h="673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8">
                        <a:alphaModFix amt="50000"/>
                      </a:blip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сн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9">
                        <a:alphaModFix amt="50000"/>
                      </a:blip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кс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0">
                        <a:alphaModFix amt="50000"/>
                      </a:blip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щело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раствори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3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исл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4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95280" y="4221000"/>
          <a:ext cx="8529480" cy="1371600"/>
        </p:xfrm>
        <a:graphic>
          <a:graphicData uri="http://schemas.openxmlformats.org/drawingml/2006/table">
            <a:tbl>
              <a:tblPr/>
              <a:tblGrid>
                <a:gridCol w="1496880"/>
                <a:gridCol w="1354320"/>
                <a:gridCol w="2346120"/>
                <a:gridCol w="1602000"/>
                <a:gridCol w="1730160"/>
              </a:tblGrid>
              <a:tr h="673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blipFill rotWithShape="0">
                      <a:blip r:embed="rId15">
                        <a:alphaModFix amt="50000"/>
                      </a:blip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сн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blipFill rotWithShape="0">
                      <a:blip r:embed="rId16">
                        <a:alphaModFix amt="50000"/>
                      </a:blip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кс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blipFill rotWithShape="0">
                      <a:blip r:embed="rId17">
                        <a:alphaModFix amt="50000"/>
                      </a:blip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щело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blipFill rotWithShape="0">
                      <a:blip r:embed="rId18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раствори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blipFill rotWithShape="0">
                      <a:blip r:embed="rId19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blipFill rotWithShape="0">
                      <a:blip r:embed="rId20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исл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blipFill rotWithShape="0">
                      <a:blip r:embed="rId21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79280" y="1413000"/>
          <a:ext cx="8723520" cy="3693960"/>
        </p:xfrm>
        <a:graphic>
          <a:graphicData uri="http://schemas.openxmlformats.org/drawingml/2006/table">
            <a:tbl>
              <a:tblPr/>
              <a:tblGrid>
                <a:gridCol w="1368360"/>
                <a:gridCol w="1594080"/>
                <a:gridCol w="2376360"/>
                <a:gridCol w="1584360"/>
                <a:gridCol w="1800360"/>
              </a:tblGrid>
              <a:tr h="449280">
                <a:tc rowSpan="2"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 gridSpan="2"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ло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4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ераствори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5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6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сл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7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  <a:tr h="56052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8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K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9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Cu(OH)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0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K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2</a:t>
                      </a: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Cl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2</a:t>
                      </a: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O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2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  <a:tr h="56052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HNO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3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4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Al(OH)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5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Cu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6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С</a:t>
                      </a: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O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7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  <a:tr h="56052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H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8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Ca(OH)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19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0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P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SO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2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  <a:tr h="56052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H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2</a:t>
                      </a: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SO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3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4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5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Al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2</a:t>
                      </a: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O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6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7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  <a:tr h="56052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H</a:t>
                      </a:r>
                      <a:r>
                        <a:rPr b="1" i="1" lang="es-ES" sz="2400" spc="-1" strike="noStrike" baseline="-25000">
                          <a:solidFill>
                            <a:srgbClr val="fa2312"/>
                          </a:solidFill>
                          <a:latin typeface="Arial"/>
                        </a:rPr>
                        <a:t>2</a:t>
                      </a:r>
                      <a:r>
                        <a:rPr b="1" i="1" lang="es-ES" sz="2400" spc="-1" strike="noStrike">
                          <a:solidFill>
                            <a:srgbClr val="fa2312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8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29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0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blipFill rotWithShape="0">
                      <a:blip r:embed="rId32">
                        <a:alphaModFix amt="50000"/>
                      </a:blip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1116000" y="54936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РОВЕР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На 10 карточках написаны формулы веществ с коэффициентами, участвующих в химических реакциях. Составить три уравнения возможных реакци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2565360"/>
            <a:ext cx="1873080" cy="792360"/>
          </a:xfrm>
          <a:prstGeom prst="rect">
            <a:avLst/>
          </a:prstGeom>
          <a:solidFill>
            <a:srgbClr val="ccffff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32360" y="5589720"/>
            <a:ext cx="187308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4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3068640"/>
            <a:ext cx="187344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3068640"/>
            <a:ext cx="187344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2Na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292640"/>
            <a:ext cx="187344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2637000"/>
            <a:ext cx="187344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4292640"/>
            <a:ext cx="187344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84360" y="4221000"/>
            <a:ext cx="1873440" cy="79236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2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4221000"/>
            <a:ext cx="1873080" cy="79236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2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5589720"/>
            <a:ext cx="187344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2 H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1557360"/>
            <a:ext cx="187344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4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17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2312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557360"/>
            <a:ext cx="187308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6400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2312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56360" y="1484280"/>
            <a:ext cx="1873080" cy="79236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2Na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2637000"/>
            <a:ext cx="187308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231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2312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2637000"/>
            <a:ext cx="187308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2708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2312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6360" y="2637000"/>
            <a:ext cx="1873080" cy="79200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2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3933720"/>
            <a:ext cx="1584360" cy="79236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2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4005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2312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3933720"/>
            <a:ext cx="1584360" cy="79236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7280" y="393372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2312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3280" y="3933720"/>
            <a:ext cx="1656000" cy="79236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43640" y="4005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2312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93080" y="3933720"/>
            <a:ext cx="1366560" cy="79236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2 H</a:t>
            </a:r>
            <a:r>
              <a:rPr b="1" lang="en-US" sz="3200" spc="-1" strike="noStrike" baseline="-25000">
                <a:solidFill>
                  <a:srgbClr val="fa2312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a231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16000" y="54936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РОВЕР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§ 31 (с. 95—99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упр. 1, 5—9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дачи 1, 2 (с. 99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227640" y="4508640"/>
            <a:ext cx="1841760" cy="1606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562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Основани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92360" y="5229000"/>
            <a:ext cx="5976720" cy="88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химия – 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2546280" cy="2684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32000" y="1773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УРОК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533520" y="228240"/>
            <a:ext cx="9677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Химические свойства осн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484280"/>
            <a:ext cx="82296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Щелочи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изменяют окраску индик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3284640"/>
            <a:ext cx="1981080" cy="45972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Лакм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4437000"/>
            <a:ext cx="4038480" cy="8254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Метиловый оранже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562720"/>
            <a:ext cx="4038480" cy="45972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Фенолфталеин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357720"/>
            <a:ext cx="1219320" cy="380880"/>
          </a:xfrm>
          <a:prstGeom prst="rightArrow">
            <a:avLst>
              <a:gd name="adj1" fmla="val 50000"/>
              <a:gd name="adj2" fmla="val 800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437000"/>
            <a:ext cx="1219320" cy="381240"/>
          </a:xfrm>
          <a:prstGeom prst="rightArrow">
            <a:avLst>
              <a:gd name="adj1" fmla="val 50000"/>
              <a:gd name="adj2" fmla="val 7995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638680"/>
            <a:ext cx="1219320" cy="381240"/>
          </a:xfrm>
          <a:prstGeom prst="rightArrow">
            <a:avLst>
              <a:gd name="adj1" fmla="val 50000"/>
              <a:gd name="adj2" fmla="val 7995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3357720"/>
            <a:ext cx="237492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7640" y="4365720"/>
            <a:ext cx="252108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Жел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5486400"/>
            <a:ext cx="259092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Малин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2050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2312"/>
                </a:solidFill>
                <a:latin typeface="Comic Sans MS"/>
              </a:rPr>
              <a:t>Индикаторы –</a:t>
            </a:r>
            <a:r>
              <a:rPr b="1" i="1" lang="ru-RU" sz="2800" spc="-1" strike="noStrike">
                <a:solidFill>
                  <a:srgbClr val="008000"/>
                </a:solidFill>
                <a:latin typeface="Comic Sans MS"/>
              </a:rPr>
              <a:t>от лат. «</a:t>
            </a:r>
            <a:r>
              <a:rPr b="1" i="1" lang="en-US" sz="2800" spc="-1" strike="noStrike">
                <a:solidFill>
                  <a:srgbClr val="008000"/>
                </a:solidFill>
                <a:latin typeface="Comic Sans MS"/>
              </a:rPr>
              <a:t>indication</a:t>
            </a:r>
            <a:r>
              <a:rPr b="1" i="1" lang="ru-RU" sz="2800" spc="-1" strike="noStrike">
                <a:solidFill>
                  <a:srgbClr val="008000"/>
                </a:solidFill>
                <a:latin typeface="Comic Sans MS"/>
              </a:rPr>
              <a:t>»</a:t>
            </a:r>
            <a:r>
              <a:rPr b="0" lang="ru-RU" sz="3200" spc="-1" strike="noStrike">
                <a:solidFill>
                  <a:srgbClr val="9e001e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a2312"/>
                </a:solidFill>
                <a:latin typeface="Comic Sans MS"/>
              </a:rPr>
              <a:t>-указ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окраска фенолфталеина в щелочной среде малиновая"/>
          <p:cNvPicPr/>
          <p:nvPr/>
        </p:nvPicPr>
        <p:blipFill>
          <a:blip r:embed="rId1"/>
          <a:stretch/>
        </p:blipFill>
        <p:spPr>
          <a:xfrm>
            <a:off x="5334120" y="228600"/>
            <a:ext cx="3124080" cy="2346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28600" y="457200"/>
            <a:ext cx="4648320" cy="1781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Фенолфталеиновый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в щелоча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малин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04840" y="2819520"/>
            <a:ext cx="6934320" cy="121896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Индикатор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фиксирует наличие ионов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ОН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в растворе щел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6440" y="4419720"/>
            <a:ext cx="8869320" cy="2125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6002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рН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  <a:ea typeface="Arial"/>
              </a:rPr>
              <a:t>&lt;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рН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рН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  <a:ea typeface="Arial"/>
              </a:rPr>
              <a:t>&gt;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28600"/>
            <a:ext cx="82296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Основания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реагируют с кисл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29280" y="990720"/>
            <a:ext cx="571320" cy="76176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905120"/>
            <a:ext cx="50292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Нейтр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3103560"/>
            <a:ext cx="9142920" cy="649080"/>
            <a:chOff x="0" y="3103560"/>
            <a:chExt cx="9142920" cy="649080"/>
          </a:xfrm>
        </p:grpSpPr>
        <p:grpSp>
          <p:nvGrpSpPr>
            <p:cNvPr id="70" name=""/>
            <p:cNvGrpSpPr/>
            <p:nvPr/>
          </p:nvGrpSpPr>
          <p:grpSpPr>
            <a:xfrm>
              <a:off x="14040" y="3108240"/>
              <a:ext cx="9112320" cy="639720"/>
              <a:chOff x="14040" y="3108240"/>
              <a:chExt cx="9112320" cy="639720"/>
            </a:xfrm>
          </p:grpSpPr>
          <p:sp>
            <p:nvSpPr>
              <p:cNvPr id="71" name=""/>
              <p:cNvSpPr/>
              <p:nvPr/>
            </p:nvSpPr>
            <p:spPr>
              <a:xfrm>
                <a:off x="222840" y="3108240"/>
                <a:ext cx="86958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Na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OH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+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H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NO</a:t>
                </a:r>
                <a:r>
                  <a:rPr b="1" lang="en-US" sz="4000" spc="-1" strike="noStrike" baseline="-30000">
                    <a:solidFill>
                      <a:srgbClr val="0000ff"/>
                    </a:solidFill>
                    <a:latin typeface="Tahoma"/>
                    <a:ea typeface="Arial"/>
                  </a:rPr>
                  <a:t>3</a:t>
                </a:r>
                <a:r>
                  <a:rPr b="1" lang="en-US" sz="4000" spc="-1" strike="noStrike" baseline="-30000">
                    <a:solidFill>
                      <a:srgbClr val="0000ff"/>
                    </a:solidFill>
                    <a:latin typeface="Tahoma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 NaNO</a:t>
                </a:r>
                <a:r>
                  <a:rPr b="1" lang="en-US" sz="4000" spc="-1" strike="noStrike" baseline="-30000">
                    <a:solidFill>
                      <a:srgbClr val="0000ff"/>
                    </a:solidFill>
                    <a:latin typeface="Tahoma"/>
                    <a:ea typeface="Arial"/>
                  </a:rPr>
                  <a:t>3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+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 H</a:t>
                </a:r>
                <a:r>
                  <a:rPr b="1" lang="en-US" sz="4000" spc="-1" strike="noStrike" baseline="-30000">
                    <a:solidFill>
                      <a:srgbClr val="ff0000"/>
                    </a:solidFill>
                    <a:latin typeface="Tahoma"/>
                    <a:ea typeface="Arial"/>
                  </a:rPr>
                  <a:t>2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040" y="3108240"/>
                <a:ext cx="91123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0" y="3103560"/>
              <a:ext cx="91429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-228600" y="4419720"/>
            <a:ext cx="9600120" cy="649080"/>
            <a:chOff x="-228600" y="4419720"/>
            <a:chExt cx="9600120" cy="649080"/>
          </a:xfrm>
        </p:grpSpPr>
        <p:grpSp>
          <p:nvGrpSpPr>
            <p:cNvPr id="75" name=""/>
            <p:cNvGrpSpPr/>
            <p:nvPr/>
          </p:nvGrpSpPr>
          <p:grpSpPr>
            <a:xfrm>
              <a:off x="-213480" y="4424400"/>
              <a:ext cx="9568080" cy="639720"/>
              <a:chOff x="-213480" y="4424400"/>
              <a:chExt cx="9568080" cy="639720"/>
            </a:xfrm>
          </p:grpSpPr>
          <p:sp>
            <p:nvSpPr>
              <p:cNvPr id="76" name=""/>
              <p:cNvSpPr/>
              <p:nvPr/>
            </p:nvSpPr>
            <p:spPr>
              <a:xfrm>
                <a:off x="5760" y="4424400"/>
                <a:ext cx="91306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Cu(</a:t>
                </a:r>
                <a:r>
                  <a:rPr b="1" lang="ru-RU" sz="36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OH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)</a:t>
                </a:r>
                <a:r>
                  <a:rPr b="1" lang="en-US" sz="3600" spc="-1" strike="noStrike" baseline="-25000">
                    <a:solidFill>
                      <a:srgbClr val="ff0000"/>
                    </a:solidFill>
                    <a:latin typeface="Tahoma"/>
                    <a:ea typeface="Arial"/>
                  </a:rPr>
                  <a:t>2</a:t>
                </a:r>
                <a:r>
                  <a:rPr b="1" lang="ru-RU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+ </a:t>
                </a:r>
                <a:r>
                  <a:rPr b="1" lang="en-US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2</a:t>
                </a:r>
                <a:r>
                  <a:rPr b="1" lang="ru-RU" sz="36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H</a:t>
                </a:r>
                <a:r>
                  <a:rPr b="1" lang="ru-RU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NO</a:t>
                </a:r>
                <a:r>
                  <a:rPr b="1" lang="ru-RU" sz="3600" spc="-1" strike="noStrike" baseline="-30000">
                    <a:solidFill>
                      <a:srgbClr val="0000ff"/>
                    </a:solidFill>
                    <a:latin typeface="Tahoma"/>
                    <a:ea typeface="Arial"/>
                  </a:rPr>
                  <a:t>3</a:t>
                </a:r>
                <a:r>
                  <a:rPr b="1" lang="ru-RU" sz="3600" spc="-1" strike="noStrike" baseline="-30000">
                    <a:solidFill>
                      <a:srgbClr val="0000ff"/>
                    </a:solidFill>
                    <a:latin typeface="Tahoma"/>
                  </a:rPr>
                  <a:t> </a:t>
                </a:r>
                <a:r>
                  <a:rPr b="1" lang="ru-RU" sz="36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1" lang="ru-RU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 </a:t>
                </a:r>
                <a:r>
                  <a:rPr b="1" lang="en-US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Cu(</a:t>
                </a:r>
                <a:r>
                  <a:rPr b="1" lang="ru-RU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NO</a:t>
                </a:r>
                <a:r>
                  <a:rPr b="1" lang="ru-RU" sz="3600" spc="-1" strike="noStrike" baseline="-30000">
                    <a:solidFill>
                      <a:srgbClr val="0000ff"/>
                    </a:solidFill>
                    <a:latin typeface="Tahoma"/>
                    <a:ea typeface="Arial"/>
                  </a:rPr>
                  <a:t>3</a:t>
                </a:r>
                <a:r>
                  <a:rPr b="1" lang="en-US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)</a:t>
                </a:r>
                <a:r>
                  <a:rPr b="1" lang="en-US" sz="3600" spc="-1" strike="noStrike" baseline="-25000">
                    <a:solidFill>
                      <a:srgbClr val="0000ff"/>
                    </a:solidFill>
                    <a:latin typeface="Tahoma"/>
                    <a:ea typeface="Arial"/>
                  </a:rPr>
                  <a:t>2</a:t>
                </a:r>
                <a:r>
                  <a:rPr b="1" lang="ru-RU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+</a:t>
                </a:r>
                <a:r>
                  <a:rPr b="1" lang="ru-RU" sz="36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 </a:t>
                </a:r>
                <a:r>
                  <a:rPr b="1" lang="en-US" sz="36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2</a:t>
                </a:r>
                <a:r>
                  <a:rPr b="1" lang="ru-RU" sz="36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H</a:t>
                </a:r>
                <a:r>
                  <a:rPr b="1" lang="ru-RU" sz="3600" spc="-1" strike="noStrike" baseline="-30000">
                    <a:solidFill>
                      <a:srgbClr val="ff0000"/>
                    </a:solidFill>
                    <a:latin typeface="Tahoma"/>
                    <a:ea typeface="Arial"/>
                  </a:rPr>
                  <a:t>2</a:t>
                </a:r>
                <a:r>
                  <a:rPr b="1" lang="ru-RU" sz="36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-213480" y="4424400"/>
                <a:ext cx="95680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-228600" y="4419720"/>
              <a:ext cx="96001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838080" y="1143000"/>
            <a:ext cx="1828800" cy="45972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щел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1143000"/>
            <a:ext cx="3124080" cy="45972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ераствори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5257800"/>
            <a:ext cx="2057400" cy="45972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334120"/>
            <a:ext cx="1523880" cy="45972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5791320"/>
            <a:ext cx="1828800" cy="45972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5638680"/>
            <a:ext cx="1523880" cy="45972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833920" cy="518148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879640" cy="53341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grpSp>
        <p:nvGrpSpPr>
          <p:cNvPr id="87" name=""/>
          <p:cNvGrpSpPr/>
          <p:nvPr/>
        </p:nvGrpSpPr>
        <p:grpSpPr>
          <a:xfrm>
            <a:off x="0" y="5943600"/>
            <a:ext cx="9142920" cy="649080"/>
            <a:chOff x="0" y="5943600"/>
            <a:chExt cx="9142920" cy="649080"/>
          </a:xfrm>
        </p:grpSpPr>
        <p:grpSp>
          <p:nvGrpSpPr>
            <p:cNvPr id="88" name=""/>
            <p:cNvGrpSpPr/>
            <p:nvPr/>
          </p:nvGrpSpPr>
          <p:grpSpPr>
            <a:xfrm>
              <a:off x="14040" y="5948280"/>
              <a:ext cx="9112320" cy="639720"/>
              <a:chOff x="14040" y="5948280"/>
              <a:chExt cx="9112320" cy="639720"/>
            </a:xfrm>
          </p:grpSpPr>
          <p:sp>
            <p:nvSpPr>
              <p:cNvPr id="89" name=""/>
              <p:cNvSpPr/>
              <p:nvPr/>
            </p:nvSpPr>
            <p:spPr>
              <a:xfrm>
                <a:off x="222840" y="5948280"/>
                <a:ext cx="86958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Na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OH</a:t>
                </a:r>
                <a:r>
                  <a:rPr b="1" lang="ru-RU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+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H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Cl</a:t>
                </a:r>
                <a:r>
                  <a:rPr b="1" lang="ru-RU" sz="4000" spc="-1" strike="noStrike" baseline="-30000">
                    <a:solidFill>
                      <a:srgbClr val="0000ff"/>
                    </a:solidFill>
                    <a:latin typeface="Tahoma"/>
                  </a:rPr>
                  <a:t> </a:t>
                </a:r>
                <a:r>
                  <a:rPr b="1" lang="ru-RU" sz="4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1" lang="ru-RU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 Na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Cl</a:t>
                </a:r>
                <a:r>
                  <a:rPr b="1" lang="ru-RU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+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 H</a:t>
                </a:r>
                <a:r>
                  <a:rPr b="1" lang="ru-RU" sz="4000" spc="-1" strike="noStrike" baseline="-30000">
                    <a:solidFill>
                      <a:srgbClr val="ff0000"/>
                    </a:solidFill>
                    <a:latin typeface="Tahoma"/>
                    <a:ea typeface="Arial"/>
                  </a:rPr>
                  <a:t>2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040" y="5948280"/>
                <a:ext cx="91123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0" y="5943600"/>
              <a:ext cx="91429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Индика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1676520"/>
            <a:ext cx="304560" cy="1981080"/>
          </a:xfrm>
          <a:prstGeom prst="downArrow">
            <a:avLst>
              <a:gd name="adj1" fmla="val 50000"/>
              <a:gd name="adj2" fmla="val 1626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267080"/>
            <a:ext cx="213336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Изменение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рН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р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945320" cy="327348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684360" y="4581360"/>
            <a:ext cx="78483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ЕАКЦИЯ НЕЙТРАЛИЗАЦИЯ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АКЦИЯ МЕЖДУ КИСЛОТОЙ И ОСНОВАНИЕМ С ОБРАЗОВАНИЕМ СОЛИ И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52280"/>
            <a:ext cx="822960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Щелочи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реагируют с кислотными окси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8600" y="1371600"/>
            <a:ext cx="8571960" cy="5256720"/>
            <a:chOff x="228600" y="1371600"/>
            <a:chExt cx="8571960" cy="5256720"/>
          </a:xfrm>
        </p:grpSpPr>
        <p:grpSp>
          <p:nvGrpSpPr>
            <p:cNvPr id="99" name=""/>
            <p:cNvGrpSpPr/>
            <p:nvPr/>
          </p:nvGrpSpPr>
          <p:grpSpPr>
            <a:xfrm>
              <a:off x="237960" y="1386720"/>
              <a:ext cx="8551800" cy="5223960"/>
              <a:chOff x="237960" y="1386720"/>
              <a:chExt cx="8551800" cy="52239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237960" y="1386720"/>
                <a:ext cx="2221920" cy="745200"/>
                <a:chOff x="237960" y="1386720"/>
                <a:chExt cx="2221920" cy="7452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37960" y="138672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Кислотный оксид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37960" y="138672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460600" y="1386720"/>
                <a:ext cx="3180240" cy="745200"/>
                <a:chOff x="2460600" y="1386720"/>
                <a:chExt cx="3180240" cy="7452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460600" y="138672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Соответствующая кислот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460600" y="138672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641560" y="1386720"/>
                <a:ext cx="3148200" cy="745200"/>
                <a:chOff x="5641560" y="1386720"/>
                <a:chExt cx="3148200" cy="7452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641560" y="138672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Кислотный остаток в соли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641560" y="138672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37960" y="2133000"/>
                <a:ext cx="2221920" cy="745200"/>
                <a:chOff x="237960" y="2133000"/>
                <a:chExt cx="2221920" cy="7452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37960" y="213300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37960" y="213300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2460600" y="2133000"/>
                <a:ext cx="3180240" cy="745200"/>
                <a:chOff x="2460600" y="2133000"/>
                <a:chExt cx="3180240" cy="7452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460600" y="213300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460600" y="213300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41560" y="2133000"/>
                <a:ext cx="3148200" cy="745200"/>
                <a:chOff x="5641560" y="2133000"/>
                <a:chExt cx="3148200" cy="745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641560" y="213300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I) сульфи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41560" y="213300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37960" y="2879640"/>
                <a:ext cx="2221920" cy="745200"/>
                <a:chOff x="237960" y="2879640"/>
                <a:chExt cx="2221920" cy="745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37960" y="287964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37960" y="287964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460600" y="2879640"/>
                <a:ext cx="3180240" cy="745200"/>
                <a:chOff x="2460600" y="2879640"/>
                <a:chExt cx="3180240" cy="7452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460600" y="287964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460600" y="287964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641560" y="2879640"/>
                <a:ext cx="3148200" cy="745200"/>
                <a:chOff x="5641560" y="2879640"/>
                <a:chExt cx="3148200" cy="7452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641560" y="287964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4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I) сульфа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641560" y="287964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37960" y="3625920"/>
                <a:ext cx="2221920" cy="745200"/>
                <a:chOff x="237960" y="3625920"/>
                <a:chExt cx="2221920" cy="745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37960" y="362592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7960" y="362592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460600" y="3625920"/>
                <a:ext cx="3180240" cy="745200"/>
                <a:chOff x="2460600" y="3625920"/>
                <a:chExt cx="3180240" cy="745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60600" y="362592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P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0600" y="362592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5641560" y="3625920"/>
                <a:ext cx="3148200" cy="745200"/>
                <a:chOff x="5641560" y="3625920"/>
                <a:chExt cx="3148200" cy="7452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641560" y="362592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P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4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II) фосфа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41560" y="362592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237960" y="4372560"/>
                <a:ext cx="2221920" cy="745200"/>
                <a:chOff x="237960" y="4372560"/>
                <a:chExt cx="2221920" cy="7452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37960" y="437256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37960" y="437256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460600" y="4372560"/>
                <a:ext cx="3180240" cy="745200"/>
                <a:chOff x="2460600" y="4372560"/>
                <a:chExt cx="3180240" cy="745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460600" y="437256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N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460600" y="437256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641560" y="4372560"/>
                <a:ext cx="3148200" cy="745200"/>
                <a:chOff x="5641560" y="4372560"/>
                <a:chExt cx="3148200" cy="745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641560" y="437256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N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) нитра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41560" y="437256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37960" y="5118840"/>
                <a:ext cx="2221920" cy="745200"/>
                <a:chOff x="237960" y="5118840"/>
                <a:chExt cx="2221920" cy="745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37960" y="511884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37960" y="511884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460600" y="5118840"/>
                <a:ext cx="3180240" cy="745200"/>
                <a:chOff x="2460600" y="5118840"/>
                <a:chExt cx="3180240" cy="7452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460600" y="511884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C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460600" y="511884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641560" y="5118840"/>
                <a:ext cx="3148200" cy="745200"/>
                <a:chOff x="5641560" y="5118840"/>
                <a:chExt cx="3148200" cy="7452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641560" y="511884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C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I) карбона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641560" y="511884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37960" y="5865480"/>
                <a:ext cx="2221920" cy="745200"/>
                <a:chOff x="237960" y="5865480"/>
                <a:chExt cx="2221920" cy="7452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37960" y="586548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Si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37960" y="586548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460600" y="5865480"/>
                <a:ext cx="3180240" cy="745200"/>
                <a:chOff x="2460600" y="5865480"/>
                <a:chExt cx="3180240" cy="7452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460600" y="586548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i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60600" y="586548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641560" y="5865480"/>
                <a:ext cx="3148200" cy="745200"/>
                <a:chOff x="5641560" y="5865480"/>
                <a:chExt cx="3148200" cy="7452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641560" y="586548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i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I) силика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641560" y="586548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228600" y="1371600"/>
              <a:ext cx="8571960" cy="52567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858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NaOH + P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O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</a:rPr>
              <a:t>5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66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Na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PO</a:t>
            </a:r>
            <a:r>
              <a:rPr b="1" lang="en-US" sz="4000" spc="-1" strike="noStrike" baseline="-30000">
                <a:solidFill>
                  <a:srgbClr val="ff0066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 +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H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1981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Н</a:t>
            </a:r>
            <a:r>
              <a:rPr b="1" lang="en-US" sz="4000" spc="-1" strike="noStrike" baseline="-30000">
                <a:solidFill>
                  <a:srgbClr val="ff0066"/>
                </a:solidFill>
                <a:latin typeface="Tahoma"/>
              </a:rPr>
              <a:t>3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PO</a:t>
            </a:r>
            <a:r>
              <a:rPr b="1" lang="en-US" sz="4000" spc="-1" strike="noStrike" baseline="-30000">
                <a:solidFill>
                  <a:srgbClr val="ff0066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14479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438280"/>
            <a:ext cx="990720" cy="990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371240"/>
            <a:ext cx="1676520" cy="16765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43080" y="4191120"/>
            <a:ext cx="8457480" cy="649080"/>
            <a:chOff x="343080" y="4191120"/>
            <a:chExt cx="8457480" cy="649080"/>
          </a:xfrm>
        </p:grpSpPr>
        <p:grpSp>
          <p:nvGrpSpPr>
            <p:cNvPr id="170" name=""/>
            <p:cNvGrpSpPr/>
            <p:nvPr/>
          </p:nvGrpSpPr>
          <p:grpSpPr>
            <a:xfrm>
              <a:off x="356040" y="4195800"/>
              <a:ext cx="8429040" cy="639720"/>
              <a:chOff x="356040" y="4195800"/>
              <a:chExt cx="8429040" cy="639720"/>
            </a:xfrm>
          </p:grpSpPr>
          <p:sp>
            <p:nvSpPr>
              <p:cNvPr id="171" name=""/>
              <p:cNvSpPr/>
              <p:nvPr/>
            </p:nvSpPr>
            <p:spPr>
              <a:xfrm>
                <a:off x="549000" y="4195800"/>
                <a:ext cx="80434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ahoma"/>
                    <a:ea typeface="Arial"/>
                  </a:rPr>
                  <a:t>2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KOH + CO</a:t>
                </a:r>
                <a:r>
                  <a:rPr b="1" lang="en-US" sz="4000" spc="-1" strike="noStrike" baseline="-30000">
                    <a:solidFill>
                      <a:srgbClr val="0000ff"/>
                    </a:solidFill>
                    <a:latin typeface="Tahoma"/>
                    <a:ea typeface="Arial"/>
                  </a:rPr>
                  <a:t>2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</a:t>
                </a:r>
                <a:r>
                  <a:rPr b="1" lang="en-US" sz="4000" spc="-1" strike="noStrike">
                    <a:solidFill>
                      <a:srgbClr val="6600ff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K</a:t>
                </a:r>
                <a:r>
                  <a:rPr b="1" lang="en-US" sz="4000" spc="-1" strike="noStrike" baseline="-30000">
                    <a:solidFill>
                      <a:srgbClr val="0000ff"/>
                    </a:solidFill>
                    <a:latin typeface="Tahoma"/>
                    <a:ea typeface="Arial"/>
                  </a:rPr>
                  <a:t>2</a:t>
                </a:r>
                <a:r>
                  <a:rPr b="1" lang="en-US" sz="4000" spc="-1" strike="noStrike">
                    <a:solidFill>
                      <a:srgbClr val="ff0066"/>
                    </a:solidFill>
                    <a:latin typeface="Tahoma"/>
                    <a:ea typeface="Arial"/>
                  </a:rPr>
                  <a:t>CO</a:t>
                </a:r>
                <a:r>
                  <a:rPr b="1" lang="en-US" sz="4000" spc="-1" strike="noStrike" baseline="-30000">
                    <a:solidFill>
                      <a:srgbClr val="ff0066"/>
                    </a:solidFill>
                    <a:latin typeface="Tahoma"/>
                    <a:ea typeface="Arial"/>
                  </a:rPr>
                  <a:t>3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 + H</a:t>
                </a:r>
                <a:r>
                  <a:rPr b="1" lang="en-US" sz="4000" spc="-1" strike="noStrike" baseline="-30000">
                    <a:solidFill>
                      <a:srgbClr val="0000ff"/>
                    </a:solidFill>
                    <a:latin typeface="Tahoma"/>
                    <a:ea typeface="Arial"/>
                  </a:rPr>
                  <a:t>2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ahoma"/>
                    <a:ea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6040" y="4195800"/>
                <a:ext cx="842904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343080" y="4191120"/>
              <a:ext cx="84574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124080" y="49528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5867280"/>
            <a:ext cx="2133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Н</a:t>
            </a:r>
            <a:r>
              <a:rPr b="1" lang="en-US" sz="4000" spc="-1" strike="noStrike" baseline="-30000">
                <a:solidFill>
                  <a:srgbClr val="ff0066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 baseline="-30000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  <a:ea typeface="Arial"/>
              </a:rPr>
              <a:t>CO</a:t>
            </a:r>
            <a:r>
              <a:rPr b="1" lang="en-US" sz="4000" spc="-1" strike="noStrike" baseline="-30000">
                <a:solidFill>
                  <a:srgbClr val="ff0066"/>
                </a:solidFill>
                <a:latin typeface="Tahom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5867280"/>
            <a:ext cx="1067040" cy="762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343400" y="5029200"/>
            <a:ext cx="838080" cy="1371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676520"/>
            <a:ext cx="17528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Щело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200400"/>
            <a:ext cx="20574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ислотный окс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3429000"/>
            <a:ext cx="1752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1905120"/>
            <a:ext cx="1752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2514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2760" y="3657600"/>
            <a:ext cx="4038480" cy="228600"/>
          </a:xfrm>
          <a:prstGeom prst="rightArrow">
            <a:avLst>
              <a:gd name="adj1" fmla="val 50000"/>
              <a:gd name="adj2" fmla="val 4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12:18:56Z</dcterms:created>
  <dc:creator>User</dc:creator>
  <dc:description/>
  <dc:language>en-US</dc:language>
  <cp:lastModifiedBy>User</cp:lastModifiedBy>
  <dcterms:modified xsi:type="dcterms:W3CDTF">2009-08-15T06:00:13Z</dcterms:modified>
  <cp:revision>8</cp:revision>
  <dc:subject/>
  <dc:title>Слайд 1</dc:title>
</cp:coreProperties>
</file>